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99919"/>
        <c:axId val="17203862"/>
      </c:barChart>
      <c:catAx>
        <c:axId val="79599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03862"/>
        <c:crosses val="autoZero"/>
        <c:auto val="1"/>
        <c:lblAlgn val="ctr"/>
        <c:lblOffset val="100"/>
        <c:noMultiLvlLbl val="0"/>
      </c:catAx>
      <c:valAx>
        <c:axId val="17203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99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292-CBA1-47A4-8007-F207E708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31B-AAF3-4038-8F67-A2BEF9D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D03-FE3C-484C-9203-B93EDD12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3CC-E441-4793-A0A8-8E5999D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7B3-9249-4783-972E-0B340D6C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439-013D-4112-B3D1-EAE1081B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8A9-1B4D-4724-A27A-8104692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421-11D4-47FA-A8AF-723C1FD7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007-85AE-413F-9FAF-786B3C5A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E67-8CD7-47C8-9AAB-D503D05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98A-196A-4334-8C4B-E04FAA5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66D-12EA-4BAF-A6FC-68E27F2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952EC-695F-44F7-9D31-7E3D0EA7B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