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6907"/>
        <c:axId val="53243962"/>
      </c:barChart>
      <c:catAx>
        <c:axId val="4316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43962"/>
        <c:crosses val="autoZero"/>
        <c:auto val="1"/>
        <c:lblAlgn val="ctr"/>
        <c:lblOffset val="100"/>
        <c:noMultiLvlLbl val="0"/>
      </c:catAx>
      <c:valAx>
        <c:axId val="53243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DC6-E4FD-4B8E-9BC8-6E2A4DCD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363-487C-4E0F-B740-91266DB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337-5C15-4748-83BA-F4BEDE3B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DA2-0CD0-4604-B4DE-31608A0C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F7A-63C7-4E7C-BCCD-B11BDD7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A3-9E1F-4B41-89D0-69B4DDFE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287-4952-4921-BB46-61D19BE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73A-3589-4352-A17C-5692C70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666-91B3-4ADA-A6F6-D34F2E9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55C-C776-48C1-9281-6B84720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9DD-A35F-4D6C-8837-15FC3255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7A7-8766-4B17-8E30-62519CA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A4BE-F652-47AA-A1A9-DD7536DF0B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