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8187"/>
        <c:axId val="3676977"/>
      </c:barChart>
      <c:catAx>
        <c:axId val="187381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977"/>
        <c:crosses val="autoZero"/>
        <c:auto val="1"/>
        <c:lblAlgn val="ctr"/>
        <c:lblOffset val="100"/>
        <c:noMultiLvlLbl val="0"/>
      </c:catAx>
      <c:valAx>
        <c:axId val="3676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81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5B5-0167-407B-B4FE-031EEB3D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138-7A08-4D6E-801A-DD19B4F5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32D-1FE0-41B9-9DBA-A9D7D449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EEF-A938-4997-8B90-4BBBF578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8B6-5EA6-4756-8BC5-D44A4BC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51D-7E6A-4835-A454-F7CB2E70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587-F8A9-46D7-BD58-66CA2CC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CED-E780-4DC1-8EC6-B48628C7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6B5-8044-4211-8DAE-0940CEEA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764-85D0-4C24-AD24-20F2D0D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58A-8D0A-426C-82AC-0DAF242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D1A-9E99-4E43-B855-5EB0FC6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0C427-0BDB-4A1E-9D55-209C931813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